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EE1-7B7F-49C6-9A73-BA56BF50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Dynamic: With pull down, overlaps With pull up, dead space during precharge. Probably mor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: we only use one 1 Row decoder to save space, unlike the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 has one row decoder per b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, less decoders =&gt; cut down in spa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=&gt; each decoders will have more load but had logics to choose which bank of WL to charg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plan to expand this for burst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ecoders are for Read (Column, Bank) Write (Column, B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hose to use an unsual addressing sche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our caches 8kbytes in size, it means 11 bits for address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used the first bit… blah blah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means that instead of reading in blocks, we read across all our 16 blocks. After reading 2 words, instead of going to the next row to read the next word we would go to the next block to read the next wor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ason for this addressing scheme was to implement our special feature called Burst Mod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st Mode would allow us to read multiple words in one cycle. Burst mode is built around the idea of spatial locality where when reading one data there is a very high chance of reading the next few words. Our addressing scheme would allow parallel reading of word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chieve this we used these decodes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ever, Burst mode meant more complex logic. Unfortunately, we haven’t gotten to implement in testing because of time constrai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che 8kBytes, 2 words per column in a bank, 16 banks, 64 rows =&gt; 1 column, 4 bank, 6 row deco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ddress progresses horizontally unlike us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nded to work for 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 not only one words but multiple words in parall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words Burst 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atial Loca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gger Output Bus, logics to choose banks and 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 not have enough 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EE1-73DB-478C-8DBC-3060861C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20E-2266-4829-939A-A3589F4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950-1F8A-426E-B096-130CA880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DC7-1936-4009-8990-B21EDCF5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7AEA-6E9D-44D4-9803-65FF55BE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A1E-57C9-41B1-A670-757AC463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DC57-C6BF-4C67-82D6-F0A718A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B014-69E0-4889-9F4F-60101672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30CD-52FD-4136-8916-AEC931CF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0D4-D9C9-4487-AF18-0A5DD94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77E4-6956-473E-984E-8961F400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DB6-338E-44A1-85E4-60DFEC7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B47C-C701-473E-9194-EA06837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C3BD-9DA7-4F07-8B04-90E2B30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96D-F120-4C96-94BF-D8F2B9FF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7BF-450C-45BB-A4DB-E2CB4DCE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5AB-7D7F-48D2-B8AD-4B4CF53C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177-7061-4875-BC38-49A8130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AC8-1033-4C6C-94D9-8ED65BB6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FB2-1F68-4EAA-B61A-326B5312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C2B-02E8-4E9B-8CDB-9F7204F1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411-00DF-4305-9505-C63A345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2C5-D30E-4759-A905-E7EF9DF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A39-D064-4270-A146-ECEAB3B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33B-4E2B-4E7B-8139-E9E6037CE0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16F-A1B7-4612-B12A-894D33996E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 Speed Cach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E 432 Group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 Alb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soon K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wamu S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itcel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 Cell Bit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Var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Mar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ic: 1.58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: 0.7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: 1.6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.35 X 7.2 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872320" y="1981080"/>
          <a:ext cx="1779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2320" y="1981080"/>
                    <a:ext cx="1779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657600" y="2590920"/>
          <a:ext cx="533556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53355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ipheral Circuit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o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static C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6-64 decoder: 3.14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ransmission g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of 16-1 Mux: 2.81 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se generator for WL and 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crease power consumption, by the WL and BL BL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nsure WL is not high during pre-charge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ck Addressing Sche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bits Address. 0 for column, 1-4 for bank address and 5-10 for the r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olumn and 2 Bank Decoders for read and write, 1 row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2388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mulation Resul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 of SRAM: 6.5mm X 2.5m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.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0.7m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Power: 669.8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Delay: 6.8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Delay: 6.8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Delay: 6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harge Delay 4.4 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Cycle 11 ns  91MH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ic = 6.4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610840" cy="574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20000">
            <a:off x="2285640" y="3048120"/>
            <a:ext cx="20574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3920" y="838080"/>
            <a:ext cx="121932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14400" y="327636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Types of Faster Dec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on Schediwy Decod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Mu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st M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0:18:02Z</dcterms:created>
  <dc:creator>aaron albin</dc:creator>
  <dc:description/>
  <dc:language>en-US</dc:language>
  <cp:lastModifiedBy>aaron albin</cp:lastModifiedBy>
  <dcterms:modified xsi:type="dcterms:W3CDTF">2007-12-06T04:26:06Z</dcterms:modified>
  <cp:revision>5</cp:revision>
  <dc:subject/>
  <dc:title>High Speed Cache </dc:title>
</cp:coreProperties>
</file>